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B1F-9698-4AC8-AAD6-62A1D8097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A6765-681C-4336-8D91-D90057EF2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720F-84E2-401B-BB4F-09C6FEFAC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79B1-79B5-43DD-B802-9D91B64F7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4E2B6-922C-437F-B523-1FA801BC1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FE07B-1F39-448F-A480-6ED5CB789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2840-DAB8-4782-8D92-4AA64F2B2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606FB-1011-4320-869A-686F987CA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2F36-741C-40C2-B830-6D4CA79FF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4833A-B00B-482B-B3A2-8D55DEAD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D8FC3-5768-4CC9-9675-CC621F6D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DF6B-2961-43B8-A0D9-897294AD6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1196-63AE-4347-AA5A-5615E4697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6F598-4098-495C-BCE4-16F4A7B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43208-A0A2-4833-A3D2-5B3EE5201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1AE0-5033-4715-BDFF-0425C5270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444D2-BEBC-425D-BDB3-0F8721488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285B-130C-4252-9763-EFF5294FD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994B-1BD8-4E72-ACD8-921FA011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388D-AA8D-4F64-865F-8F156E0A9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DA77-88EC-42AA-8271-DE30897C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7046-33C8-44D2-A570-C03FEC9CF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C2B-96A8-41C4-B40C-2D6FECC42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904A-3814-4789-B79E-4F7797D3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B85A5-A463-4AA2-B937-23F27F471DD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46DA1-41B9-45DD-90A4-3924DE739E53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sent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chunks (packets) of data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passed from node to node between source and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terminal to computer and computer to computer 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systems have large overheads to compensate for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rn systems are more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s can be caught in en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overhead for error control is stripped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Transfer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olution of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ttle overhead for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packet (called cell)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thing from 10Mbps to G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data rate using packet switching techniq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d Services Digita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igned to replace public telecom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de variety of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ly digital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or small cam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owned by same organization as attached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much hig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roadcas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 some switched systems and ATM are being intro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communications between entities in a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peak the same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-mail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 sen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 of a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man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 ma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sk of communication broken up into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example file transfer could use three mod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service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modu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File Transfer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92480"/>
            <a:ext cx="8001000" cy="258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Three Layer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 Communications Model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s data to be transmit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data into transmittable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s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ts received signal into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s incoming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the computer and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ing computer provides address of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voke level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ent on type of network used (LAN, packet switched etc.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ata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being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different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e-mail, fil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evels of addressing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puter needs unique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application on a (multi-tasking) computer needs a unique address within the comp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service access point or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s an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6528"/>
          <a:stretch/>
        </p:blipFill>
        <p:spPr>
          <a:xfrm>
            <a:off x="1676520" y="1752480"/>
            <a:ext cx="5610240" cy="38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s in Simplified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27239"/>
          <a:stretch/>
        </p:blipFill>
        <p:spPr>
          <a:xfrm>
            <a:off x="533520" y="2247840"/>
            <a:ext cx="8076960" cy="26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Data Units (PDU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ach layer, protocols are used to commun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rmation is added to user data at each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layer may fragmen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gment has a transport header ad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SA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a transport protocol data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PDU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s network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 for destination comp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ies reque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a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22372"/>
          <a:stretch/>
        </p:blipFill>
        <p:spPr>
          <a:xfrm>
            <a:off x="685800" y="2117880"/>
            <a:ext cx="7848720" cy="390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US Defense Advanced Research Project Agency (DARPA) for its packet switched network (ARPAN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global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official model but a working o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o host or transpor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ccess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Communications Model -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6060"/>
          <a:stretch/>
        </p:blipFill>
        <p:spPr>
          <a:xfrm>
            <a:off x="457200" y="1676520"/>
            <a:ext cx="815328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interface between data transmission device (e.g. computer) and transmission medium o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of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ccess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data between end system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 pro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voking services like 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Layer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stems may be attached to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functions across multipl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emented in end system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Layer (TC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deliver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ing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user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ttp, SM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0" b="9862"/>
          <a:stretch/>
        </p:blipFill>
        <p:spPr>
          <a:xfrm>
            <a:off x="914400" y="1676520"/>
            <a:ext cx="7315200" cy="50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Systems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International Organization for Standardization (ISO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theoretical system delivered too late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is the de facto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v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16127"/>
          <a:stretch/>
        </p:blipFill>
        <p:spPr>
          <a:xfrm>
            <a:off x="838080" y="1676520"/>
            <a:ext cx="7772400" cy="51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d to allow for interoperability between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 large market for equipment and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products from different vendors to commun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eze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ultiple standards for the same t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Communications T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System Uti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r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ing and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format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Man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s Organiz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Socie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(formally CCIT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fo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rther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, W. Data and Computer Communications (6th edition), Prentice Hall 1999 chapter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 for Stallings boo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ww.shore.net/~ws/DCC6e.htm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for IETF, IEEE, ITU-T, IS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Requests for Comment (RFC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net News grou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dcom.*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.protocols.tcp-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Data Communications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9050"/>
          <a:stretch/>
        </p:blipFill>
        <p:spPr>
          <a:xfrm>
            <a:off x="457200" y="2295360"/>
            <a:ext cx="815328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communication not usually prac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re too far a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set of devices would need impractical number of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ified Network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914400" y="1668600"/>
            <a:ext cx="670572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de Area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geographical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ing public rights of w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in part on common carrier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 Transfer Mode (AT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s path established for the duration of the convers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0:42Z</dcterms:modified>
  <cp:revision>15</cp:revision>
  <dc:subject/>
  <dc:title>William Stallings Data and Computer Communications</dc:title>
</cp:coreProperties>
</file>